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A5D-B99B-4723-8FA2-9351F929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4BD-9531-45EB-B33D-7B8077C6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ED7-EF3F-4E9F-9408-BE66A1C4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AD6-D74A-4A1A-96F2-42632E1F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215-B784-4075-9FC2-B7B88B13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C49-7B0C-4A50-920E-FE695DD9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FB3-2629-4A55-A885-5908CCC9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A8C-DD0F-4566-BD98-3E0522C9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ECF-1749-4939-B390-8CD566E3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9B6-CCB9-4925-B277-F3D3137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FBD-F135-483A-82F1-4F0DE14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050-A83C-4E70-AE91-0594B394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C61B-8A71-4E5D-A97B-C45112498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0120" y="304920"/>
            <a:ext cx="1295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everybody had a robot it would be a lot easier to live. Robots would do any thing and have any 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0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Everybody has a Personal Rob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095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55:01Z</dcterms:created>
  <dc:creator>St. Jude School</dc:creator>
  <dc:description/>
  <dc:language>en-US</dc:language>
  <cp:lastModifiedBy>St. Jude School</cp:lastModifiedBy>
  <dcterms:modified xsi:type="dcterms:W3CDTF">2009-03-12T15:43:26Z</dcterms:modified>
  <cp:revision>4</cp:revision>
  <dc:subject/>
  <dc:title>Slide 1</dc:title>
</cp:coreProperties>
</file>